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8ae7"/>
                </a:solidFill>
                <a:latin typeface="PF Din Text Comp Pro Medium"/>
              </a:rPr>
              <a:t>Click to move the slide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C5A-0F43-49FA-B4B3-E45399BB4B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A52C-14D6-4FD6-8250-687B45D8C0A5}" type="slidenum">
              <a:rPr b="0" lang="ru-RU" sz="1200" spc="-1" strike="noStrike">
                <a:solidFill>
                  <a:srgbClr val="1f50a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Средняя стоимость противочумных костюмов типа </a:t>
            </a:r>
            <a:r>
              <a:rPr b="0" lang="en-US" sz="700" spc="-1" strike="noStrike">
                <a:solidFill>
                  <a:srgbClr val="102851"/>
                </a:solidFill>
                <a:latin typeface="Calibri"/>
              </a:rPr>
              <a:t>I</a:t>
            </a: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 - 10 тыс рубле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102851"/>
                </a:solidFill>
                <a:latin typeface="Calibri"/>
              </a:rPr>
              <a:t>Ограничение возможности закупа дополнительного количества масок по прежней стоимости у поставщиков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76A0-6AE0-4977-A337-794EC5F32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77E4-449A-4376-8785-E009A1268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2CDD-C3F7-488D-A117-061F33DA7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4048-71CC-40B8-9050-1860AA0D1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2B89-3A15-4C32-BCC9-FB7A77DDA1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F860-DAA8-4E5B-B191-C5FC9B5923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6428-B8B3-43C0-B994-63B52E75CE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8D06-802E-4262-8174-1DA01AC66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3E86-3BBA-449D-8825-0FE84B84DA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9892-B45E-4F07-92DD-6E195B675E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B67E-261B-4765-9DE9-03E77D5B1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A1AA1-CA60-4153-8095-9DC718631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1F0A3-2C30-4101-9058-177DF3D4E1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73B3-9205-45A5-BACC-A48808E0C0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1BBD-BF51-43BC-A88B-F4A67E67C3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3DF8-3982-4C10-91F8-0840F54090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8AE2-A597-4909-9894-1A4545822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FB75-0268-428B-A4D8-42C144157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6E57-E86A-4ADD-AB8E-9BBB7ACA3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0750-4E9B-4FB7-98E6-0C89F3C7F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E261-00D1-493B-B968-FE47B8C17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1844-342E-4FB3-917B-7ABC84B29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656A-7A38-4AFF-A8E3-8AA84DA37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2EA5-BA70-4FF1-BFB2-FF9CE5A4F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C1E6D0CC-899F-4046-BA56-4F3614C5A83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10" descr=""/>
          <p:cNvPicPr/>
          <p:nvPr/>
        </p:nvPicPr>
        <p:blipFill>
          <a:blip r:embed="rId2"/>
          <a:stretch/>
        </p:blipFill>
        <p:spPr>
          <a:xfrm>
            <a:off x="203040" y="85680"/>
            <a:ext cx="462240" cy="863640"/>
          </a:xfrm>
          <a:prstGeom prst="rect">
            <a:avLst/>
          </a:prstGeom>
          <a:ln w="0">
            <a:noFill/>
          </a:ln>
        </p:spPr>
      </p:pic>
      <p:sp>
        <p:nvSpPr>
          <p:cNvPr id="39" name="Прямоугольник 7"/>
          <p:cNvSpPr/>
          <p:nvPr/>
        </p:nvSpPr>
        <p:spPr>
          <a:xfrm>
            <a:off x="843120" y="490680"/>
            <a:ext cx="11349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2"/>
          </p:nvPr>
        </p:nvSpPr>
        <p:spPr>
          <a:xfrm>
            <a:off x="11652120" y="6318000"/>
            <a:ext cx="54000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  <a:def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18440280"/>
              </a:tabLst>
            </a:pPr>
            <a:fld id="{F8A0612C-C4D3-42B5-BD15-725C1AC6B538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0AB7A1D5-550F-4BD2-A017-F262D2621E5A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280" y="2212920"/>
            <a:ext cx="11338200" cy="380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О мерах по предупреждению завоза </a:t>
            </a:r>
            <a:br>
              <a:rPr sz="4800"/>
            </a:br>
            <a:r>
              <a:rPr b="0" lang="ru-RU" sz="4800" spc="-1" strike="noStrike">
                <a:solidFill>
                  <a:srgbClr val="fc1c10"/>
                </a:solidFill>
                <a:latin typeface="PF Din Text Comp Pro Medium"/>
                <a:ea typeface="PF Din Text Comp Pro Medium"/>
              </a:rPr>
              <a:t>и  распространения коронаровирусной инфекции в Пермском крае</a:t>
            </a:r>
            <a:endParaRPr b="0" lang="en-US" sz="48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6960" y="5626080"/>
            <a:ext cx="4818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9216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Докладчик: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7171"/>
                </a:solidFill>
                <a:latin typeface="Arial Narrow"/>
                <a:ea typeface="PT Sans"/>
              </a:rPr>
              <a:t>Камкин Евгений Валерьевич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Зам. министра здравоохранения Пермского края</a:t>
            </a:r>
            <a:endParaRPr b="0" lang="en-US" sz="16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0750680" y="56260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216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67171"/>
                </a:solidFill>
                <a:latin typeface="Arial Narrow"/>
                <a:ea typeface="PT Sans"/>
              </a:rPr>
              <a:t>2020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40C03EC9-469F-405B-AFDF-27E6CA73F5EB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PF Din Text Comp Pro Medium"/>
              </a:rPr>
              <a:t>Эпидемическая ситуация по коронавирусной инфекцией в Пермском крае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67171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17520" y="1627200"/>
            <a:ext cx="11506320" cy="4656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За период с 24.01.2020 по настоящее время проведено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в условиях обсервационного отделения: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2 граждан КНР (обследованы, выписаны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лечение в условиях инфекционного стационара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7  лиц (из них 7 детей), прибывших из КНР (все госпитализированные пациенты выписаны.  При лабораторных исследований новая коронавирусная инфекция не выявлена)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4546a"/>
                </a:solidFill>
                <a:latin typeface="Arial"/>
              </a:rPr>
              <a:t>медицинское наблюдение за прибывшими из КНР, Ирана, Ю.Кореи, Италии и др. стран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торых зафиксированы случаи </a:t>
            </a:r>
            <a:r>
              <a:rPr b="0" lang="en-US" sz="1600" spc="-1" strike="noStrike">
                <a:solidFill>
                  <a:srgbClr val="44546a"/>
                </a:solidFill>
                <a:latin typeface="Arial"/>
              </a:rPr>
              <a:t>2019-nCoV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, в количестве 486 человек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На 12 марта 2020 г. под медицинским наблюдением на дому находится 90 человек: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78 граждан РФ, прибывших с территории Республики Итал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6 граждан РФ, прибывших с территории Республики Южная Коре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 РФ, прибывший с территории Королевства Испания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Австрии;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1 гражданин РФ, прибывший с территории Франции;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4454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44546a"/>
                </a:solidFill>
                <a:latin typeface="Arial"/>
              </a:rPr>
              <a:t>2 гражданина Республики Иран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4"/>
          <p:cNvSpPr/>
          <p:nvPr/>
        </p:nvSpPr>
        <p:spPr>
          <a:xfrm>
            <a:off x="11596680" y="1206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839AC833-59F7-43E4-B46B-8E8D71C9DDD0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640" y="198360"/>
            <a:ext cx="109728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PF Din Text Comp Pro Medium"/>
              </a:rPr>
              <a:t>Стратегия ведения прибывших граждан</a:t>
            </a:r>
            <a:endParaRPr b="0" lang="en-US" sz="3600" spc="-1" strike="noStrike">
              <a:solidFill>
                <a:srgbClr val="108ae7"/>
              </a:solidFill>
              <a:latin typeface="PF Din Text Comp Pro Medium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55600" y="10796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с территории из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4378320" y="1289160"/>
            <a:ext cx="1096920" cy="293400"/>
          </a:xfrm>
          <a:prstGeom prst="rightArrow">
            <a:avLst>
              <a:gd name="adj1" fmla="val 50000"/>
              <a:gd name="adj2" fmla="val 93466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5792760" y="1068480"/>
            <a:ext cx="607392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Изоляция на дому 14 дней с выдачей листа нетрудоспособности и 2-3 кратное обследованием на коронавирус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6" name="AutoShape 23"/>
          <p:cNvSpPr/>
          <p:nvPr/>
        </p:nvSpPr>
        <p:spPr>
          <a:xfrm>
            <a:off x="4433760" y="381636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7" name="AutoShape 24"/>
          <p:cNvSpPr/>
          <p:nvPr/>
        </p:nvSpPr>
        <p:spPr>
          <a:xfrm>
            <a:off x="4473720" y="498780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55600" y="22971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с признаками ОРВИ, прибывшие с территории КНР, Кореи, Ирана, Итали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49" name="Text Box 27"/>
          <p:cNvSpPr/>
          <p:nvPr/>
        </p:nvSpPr>
        <p:spPr>
          <a:xfrm>
            <a:off x="5834160" y="2174760"/>
            <a:ext cx="6043680" cy="91692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Госпитализация в инфекционные боксы согласно утвержденной схемы, исследование на коронавирус  4-х кратно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5830920" y="3313080"/>
            <a:ext cx="608328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активное меднаблюдение без выдачи листка нетрудоспособности, однократное исследование на коронавирус по направлению врача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048120" y="612288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255600" y="581976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Здоровые, бывшие в контакте с больным коронавирусной инфекцией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902200" y="6043680"/>
            <a:ext cx="6012000" cy="64260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Обсервационный госпиталь с выдачей листа нетрудоспособности , 4-х кратное обследование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4" name="AutoShape 35"/>
          <p:cNvSpPr/>
          <p:nvPr/>
        </p:nvSpPr>
        <p:spPr>
          <a:xfrm>
            <a:off x="4465800" y="6095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255600" y="466884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с признаками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6" name="AutoShape 37"/>
          <p:cNvSpPr/>
          <p:nvPr/>
        </p:nvSpPr>
        <p:spPr>
          <a:xfrm>
            <a:off x="4410000" y="24922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5492df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5781600" y="1087560"/>
            <a:ext cx="5403960" cy="366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862600" y="4670280"/>
            <a:ext cx="6051600" cy="1191240"/>
          </a:xfrm>
          <a:prstGeom prst="rect">
            <a:avLst/>
          </a:prstGeom>
          <a:solidFill>
            <a:srgbClr val="a5d0e3"/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Выяснение эпиданамнеза </a:t>
            </a:r>
            <a:r>
              <a:rPr b="1" lang="ru-RU" sz="1800" spc="-1" strike="noStrike">
                <a:solidFill>
                  <a:srgbClr val="1f50a1"/>
                </a:solidFill>
                <a:latin typeface="Wingdings"/>
                <a:ea typeface="Wingdings"/>
              </a:rPr>
              <a:t></a:t>
            </a: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 госпитализация в инфекционные боксы согласно утвержденной схемы, исследование на коронавиру по направлению врача 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255600" y="3505320"/>
            <a:ext cx="3564000" cy="916920"/>
          </a:xfrm>
          <a:prstGeom prst="rect">
            <a:avLst/>
          </a:prstGeom>
          <a:solidFill>
            <a:srgbClr val="5492df">
              <a:alpha val="53000"/>
            </a:srgbClr>
          </a:solidFill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50a1"/>
                </a:solidFill>
                <a:latin typeface="Arial"/>
              </a:rPr>
              <a:t>Лица, прибывшие из других регионов без признаков ОРВИ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A0FF1F70-D900-4096-9E35-2400582ABDE8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6920" y="1170000"/>
            <a:ext cx="11631600" cy="54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f50a1"/>
                </a:solidFill>
                <a:uFillTx/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Воздержитесь от посещения общественных мест: торговых центров, спортивных и зрелищных мероприятий, транспорта в час пик;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спользуйте одноразовую медицинскую маску (респиратор) в общественных местах, меняя ее каждые 3 часа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Избегайте близких контактов и пребывания в одном помещении с людьми, имеющими видимые признаки ОРВИ (кашель, чихание, выделения из носа)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Мойте руки с мылом и водой тщательно после возвращения с улицы, контактов с посторонними людьми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Дезинфицируйте гаджеты, оргтехнику и поверхности, к которым прикасаетесь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Ограничьте по возможности при приветствии тесные объятия и рукопожатия.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1f50a1"/>
                </a:solidFill>
                <a:latin typeface="Arial Narrow"/>
              </a:rPr>
              <a:t>Пользуйтесь только индивидуальными предметами личной гигиены (полотенце, зубная щетка)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70c03"/>
                </a:solidFill>
                <a:latin typeface="Arial Narrow"/>
              </a:rPr>
              <a:t>Помните: в случае появления признаков ОРВИ вызывайте врача, не занимайтесь самолечением!</a:t>
            </a:r>
            <a:endParaRPr b="0" lang="en-US" sz="24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3" name="Прямоугольник 5"/>
          <p:cNvSpPr/>
          <p:nvPr/>
        </p:nvSpPr>
        <p:spPr>
          <a:xfrm>
            <a:off x="855720" y="12708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7 шагов по профилактике коронавирусной инфекции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FBDD23F-52E4-4B78-87CD-5059B9AEC9E6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C63-E20A-493B-9951-36865D90B5FB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784520" y="2908440"/>
            <a:ext cx="8615160" cy="78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a02"/>
                </a:solidFill>
                <a:latin typeface="Calibri"/>
              </a:rPr>
              <a:t>Будьте здоровы!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F76B0D2C-393A-4F04-88CC-0EF921A316F5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25160" y="1469520"/>
            <a:ext cx="1141092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Председательства Правительства Российской Федерации от 31 января 2020 г.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№ 66 «О внесении изменения в перечень заболеваний, представляющих опасность для окружающи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4 января 2020 г. № 2 «О дополнительных мероприятиях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V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31 января 2020 г. № 3 «О проведении дополнительных санитарно-противоэпидемических (профилактических) мероприятий по недопущению завоза и распространения новой коронавирусной инфекции, вызванной 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становление Главного государственного санитарного врача Российской Федерации от 2 марта 2020 г. № 5 «О дополнительных мерах по снижению рисков завоза и распространения новой коронавирусной инфекции (2019-</a:t>
            </a:r>
            <a:r>
              <a:rPr b="0" lang="en-US" sz="2000" spc="-1" strike="noStrike">
                <a:solidFill>
                  <a:srgbClr val="102851"/>
                </a:solidFill>
                <a:latin typeface="Calibri"/>
              </a:rPr>
              <a:t>nCo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V)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642960" y="345960"/>
            <a:ext cx="11549160" cy="84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Нормативно-правовая документация 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Calibri"/>
              </a:rPr>
              <a:t>федерального уровн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4FFD9693-5C36-4164-AE56-9943F15479A6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7920" y="1279080"/>
            <a:ext cx="11479320" cy="511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лан организационных, санитарно-противоэпидемических (профилактических) мероприятий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о предупреждению завоза и распространения новой коронавирусной инфекции, утвержденный и.о. председателя Правительства Пермского края от 30 января 2020 г.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 межведомственной санитарно-противоэпидемической комиссии при Правительстве Пермского края от 31 января 2020 г. № 117 «О предотвращении возможности завоза нового коронавируса в Пермский край и дополнительных профилактических мероприятиях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Распоряжение Правительства Пермского края от 7 февраля 2020 г. № 25-рп «О создании оперативного штаба по координации мероприятий по предупреждению распространения новой коронавирусной инфекции»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отоколы заседания Оперативного штаба по координации мероприятий по предупреждению распространения на территории Пермского края коронавирусной инфекции при Правительстве Пермского края от 5 февраля 2020 г. № 1 и от 3 марта 2020 г. № 2;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Приказ Министерства здравоохранения Пермского края от 30 января 2020г. № СЭД-34-01-05-43 </a:t>
            </a:r>
            <a:br>
              <a:rPr sz="2000"/>
            </a:br>
            <a:r>
              <a:rPr b="0" lang="ru-RU" sz="2000" spc="-1" strike="noStrike">
                <a:solidFill>
                  <a:srgbClr val="102851"/>
                </a:solidFill>
                <a:latin typeface="Calibri"/>
              </a:rPr>
              <a:t>«О дополнительных мерах по недопущению распространения новой коронавирусной инфекции» </a:t>
            </a: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7171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1122480" y="174600"/>
            <a:ext cx="107139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Нормативно-правовая</a:t>
            </a:r>
            <a:r>
              <a:rPr b="0" lang="en-US" sz="2400" spc="-1" strike="noStrike">
                <a:solidFill>
                  <a:srgbClr val="fc1c1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и организационная документация регионального уровн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0ECF01FF-2958-465D-B592-34A14A25880C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8E577F00-2CB3-4068-AF24-BF682594C9F6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249200" y="158760"/>
            <a:ext cx="10714320" cy="85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Маршрутизация пациентов с подтвержденной коронавирусной инфекцией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99" name="Объект 2"/>
          <p:cNvSpPr/>
          <p:nvPr/>
        </p:nvSpPr>
        <p:spPr>
          <a:xfrm>
            <a:off x="144360" y="1268280"/>
            <a:ext cx="1181916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aa0a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иказом Министерства от 30 января 2020 г. № СЭД-34-01-05-43 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схема маршрутизации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в боксированные отделения взрослых, детей и беременных с симптомами не исключающими коронаровирусную инфекцию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пределен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базовая медицинская организация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принимающая пациентов с подтвержденной коронаровирусной инфекцией и контактных с зараженными, на базе ГБУЗ ПК «Пермская краевая клиническая инфекционная больница», </a:t>
            </a:r>
            <a:r>
              <a:rPr b="0" lang="ru-RU" sz="2400" spc="-1" strike="noStrike">
                <a:solidFill>
                  <a:srgbClr val="050d19"/>
                </a:solidFill>
                <a:latin typeface="Calibri"/>
              </a:rPr>
              <a:t>на 305 коек, из них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185 коек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, в т.ч. 15 детских боксов на 30 коек и 5 взрослых боксов на 15 коек, для приема пациентов </a:t>
            </a:r>
            <a:r>
              <a:rPr b="0" lang="en-US" sz="2400" spc="-1" strike="noStrike">
                <a:solidFill>
                  <a:srgbClr val="102851"/>
                </a:solidFill>
                <a:latin typeface="Calibri"/>
              </a:rPr>
              <a:t>2019-nCoV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Предусмотрена возможность госпитализации пациентов с другими инфекциями (помимо коронаровирусной)</a:t>
            </a:r>
            <a:r>
              <a:rPr b="0" lang="en-US" sz="2400" spc="-1" strike="noStrike">
                <a:solidFill>
                  <a:srgbClr val="102851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 ПКЦ «ФМБА» для взрослых, ГБУЗ ПК «КМСЧ №1 для беременных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Организована работа </a:t>
            </a:r>
            <a:r>
              <a:rPr b="0" lang="ru-RU" sz="2400" spc="-1" strike="noStrike">
                <a:solidFill>
                  <a:srgbClr val="c70c03"/>
                </a:solidFill>
                <a:latin typeface="Calibri"/>
              </a:rPr>
              <a:t>«Горячей  линии» тел. 258-07-87 </a:t>
            </a:r>
            <a:r>
              <a:rPr b="0" lang="ru-RU" sz="2400" spc="-1" strike="noStrike">
                <a:solidFill>
                  <a:srgbClr val="102851"/>
                </a:solidFill>
                <a:latin typeface="Calibri"/>
              </a:rPr>
              <a:t>с целью информирования граждан, вернувшихся с неблагополучных по коронавирусной инфекции территорий.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502CF76B-147F-4D19-9E7A-EB65CFB48960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3680" y="1218960"/>
            <a:ext cx="8039160" cy="55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командно-штабное учение с участием Министерства здравоохранения, служба медицины катастроф, медицинские организации, Управление Роспотребнадзора, МЧС, ГУ МВД, Управление Росгвардии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45 проверок готовности МО к работе в условиях возможного заноса инфекции с участием Управление Роспотребнадзор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бъектовые тренировки в учреждениях по отработке алгоритмов работы в строгом противоэпидемическом режиме (поликлиники, стационары). 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о 305 инструктажей медицинского персонала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Отработан порядок проведения заключительной дезинфекции транспорта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2851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102851"/>
                </a:solidFill>
                <a:latin typeface="Calibri"/>
                <a:ea typeface="Calibri"/>
              </a:rPr>
              <a:t>Проведены практические семинары по технике забора и транспортировки материалов на исследование.</a:t>
            </a: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5069-6953-46F5-931E-1A03D9B45F68}" type="slidenum">
              <a:rPr b="0" lang="ru-RU" sz="1200" spc="-1" strike="noStrike">
                <a:solidFill>
                  <a:srgbClr val="8c97be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825480" y="127080"/>
            <a:ext cx="11150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Организационная работа. 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1c10"/>
                </a:solidFill>
                <a:latin typeface="Calibri"/>
              </a:rPr>
              <a:t>Командно-штабные учения, тренировки, обучения</a:t>
            </a:r>
            <a:endParaRPr b="0" lang="en-US" sz="24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04" name="Picture 5" descr="DSC_1396"/>
          <p:cNvPicPr/>
          <p:nvPr/>
        </p:nvPicPr>
        <p:blipFill>
          <a:blip r:embed="rId1"/>
          <a:stretch/>
        </p:blipFill>
        <p:spPr>
          <a:xfrm>
            <a:off x="77760" y="1071720"/>
            <a:ext cx="3884760" cy="211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images"/>
          <p:cNvPicPr/>
          <p:nvPr/>
        </p:nvPicPr>
        <p:blipFill>
          <a:blip r:embed="rId2"/>
          <a:stretch/>
        </p:blipFill>
        <p:spPr>
          <a:xfrm>
            <a:off x="100080" y="3373560"/>
            <a:ext cx="386244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age_big_174523"/>
          <p:cNvPicPr/>
          <p:nvPr/>
        </p:nvPicPr>
        <p:blipFill>
          <a:blip r:embed="rId3"/>
          <a:stretch/>
        </p:blipFill>
        <p:spPr>
          <a:xfrm>
            <a:off x="268200" y="5402160"/>
            <a:ext cx="217656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36A32A81-7AD6-4ED7-B9E0-3BED07C6B0DB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8" name="Pentagon 149"/>
          <p:cNvSpPr/>
          <p:nvPr/>
        </p:nvSpPr>
        <p:spPr>
          <a:xfrm>
            <a:off x="419040" y="1336680"/>
            <a:ext cx="2300400" cy="976320"/>
          </a:xfrm>
          <a:custGeom>
            <a:avLst/>
            <a:gdLst>
              <a:gd name="textAreaLeft" fmla="*/ 0 w 2300400"/>
              <a:gd name="textAreaRight" fmla="*/ 2300400 w 230040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16" y="0"/>
                </a:lnTo>
                <a:lnTo>
                  <a:pt x="21600" y="10800"/>
                </a:lnTo>
                <a:lnTo>
                  <a:pt x="1701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 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09" name="Chevron 102"/>
          <p:cNvSpPr/>
          <p:nvPr/>
        </p:nvSpPr>
        <p:spPr>
          <a:xfrm>
            <a:off x="2211480" y="1338120"/>
            <a:ext cx="2703600" cy="974880"/>
          </a:xfrm>
          <a:custGeom>
            <a:avLst/>
            <a:gdLst>
              <a:gd name="textAreaLeft" fmla="*/ 0 w 2703600"/>
              <a:gd name="textAreaRight" fmla="*/ 2703960 w 270360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1" y="0"/>
                </a:lnTo>
                <a:lnTo>
                  <a:pt x="21600" y="10800"/>
                </a:lnTo>
                <a:lnTo>
                  <a:pt x="18041" y="21600"/>
                </a:lnTo>
                <a:lnTo>
                  <a:pt x="0" y="21600"/>
                </a:lnTo>
                <a:lnTo>
                  <a:pt x="355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20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боксированны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0" name="Chevron 102"/>
          <p:cNvSpPr/>
          <p:nvPr/>
        </p:nvSpPr>
        <p:spPr>
          <a:xfrm>
            <a:off x="4460760" y="1333440"/>
            <a:ext cx="2849760" cy="979560"/>
          </a:xfrm>
          <a:custGeom>
            <a:avLst/>
            <a:gdLst>
              <a:gd name="textAreaLeft" fmla="*/ 0 w 2849760"/>
              <a:gd name="textAreaRight" fmla="*/ 2850120 w 28497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07" y="0"/>
                </a:lnTo>
                <a:lnTo>
                  <a:pt x="21600" y="10800"/>
                </a:lnTo>
                <a:lnTo>
                  <a:pt x="18207" y="21600"/>
                </a:lnTo>
                <a:lnTo>
                  <a:pt x="0" y="21600"/>
                </a:lnTo>
                <a:lnTo>
                  <a:pt x="3393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57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боксированны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1" name="Pentagon 149"/>
          <p:cNvSpPr/>
          <p:nvPr/>
        </p:nvSpPr>
        <p:spPr>
          <a:xfrm>
            <a:off x="419040" y="3051000"/>
            <a:ext cx="2274840" cy="976320"/>
          </a:xfrm>
          <a:custGeom>
            <a:avLst/>
            <a:gdLst>
              <a:gd name="textAreaLeft" fmla="*/ 0 w 2274840"/>
              <a:gd name="textAreaRight" fmla="*/ 2274840 w 22748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65" y="0"/>
                </a:lnTo>
                <a:lnTo>
                  <a:pt x="21600" y="10800"/>
                </a:lnTo>
                <a:lnTo>
                  <a:pt x="169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d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7 </a:t>
            </a: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медицински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57ae"/>
                </a:solidFill>
                <a:latin typeface="PT Serif"/>
                <a:ea typeface="PT Serif"/>
              </a:rPr>
              <a:t>организаций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2" name="Chevron 102"/>
          <p:cNvSpPr/>
          <p:nvPr/>
        </p:nvSpPr>
        <p:spPr>
          <a:xfrm>
            <a:off x="2211480" y="3052800"/>
            <a:ext cx="3552840" cy="974520"/>
          </a:xfrm>
          <a:custGeom>
            <a:avLst/>
            <a:gdLst>
              <a:gd name="textAreaLeft" fmla="*/ 0 w 3552840"/>
              <a:gd name="textAreaRight" fmla="*/ 3553200 w 355284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lnTo>
                  <a:pt x="2709" y="10800"/>
                </a:lnTo>
                <a:close/>
              </a:path>
            </a:pathLst>
          </a:custGeom>
          <a:solidFill>
            <a:srgbClr val="93d5f8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65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всех инфек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3" name="Chevron 102"/>
          <p:cNvSpPr/>
          <p:nvPr/>
        </p:nvSpPr>
        <p:spPr>
          <a:xfrm>
            <a:off x="5311800" y="3048120"/>
            <a:ext cx="3971880" cy="979200"/>
          </a:xfrm>
          <a:custGeom>
            <a:avLst/>
            <a:gdLst>
              <a:gd name="textAreaLeft" fmla="*/ 0 w 3971880"/>
              <a:gd name="textAreaRight" fmla="*/ 3972240 w 397188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65" y="0"/>
                </a:lnTo>
                <a:lnTo>
                  <a:pt x="21600" y="10800"/>
                </a:lnTo>
                <a:lnTo>
                  <a:pt x="19165" y="21600"/>
                </a:lnTo>
                <a:lnTo>
                  <a:pt x="0" y="21600"/>
                </a:lnTo>
                <a:lnTo>
                  <a:pt x="2435" y="10800"/>
                </a:lnTo>
                <a:close/>
              </a:path>
            </a:pathLst>
          </a:custGeom>
          <a:solidFill>
            <a:srgbClr val="d0cece"/>
          </a:solidFill>
          <a:ln w="0">
            <a:noFill/>
          </a:ln>
          <a:effectLst>
            <a:outerShdw dist="63360" dir="5400000" blurRad="0" rotWithShape="0">
              <a:srgbClr val="999999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960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Из них </a:t>
            </a:r>
            <a:r>
              <a:rPr b="1" lang="ru-RU" sz="1800" spc="-1" strike="noStrike">
                <a:solidFill>
                  <a:srgbClr val="2257ae"/>
                </a:solidFill>
                <a:latin typeface="PT Serif"/>
                <a:ea typeface="PT Serif"/>
              </a:rPr>
              <a:t>118</a:t>
            </a:r>
            <a:r>
              <a:rPr b="0" lang="ru-RU" sz="1400" spc="-1" strike="noStrike">
                <a:solidFill>
                  <a:srgbClr val="2257ae"/>
                </a:solidFill>
                <a:latin typeface="PT Serif"/>
                <a:ea typeface="PT Serif"/>
              </a:rPr>
              <a:t>  всех реанимационных коек 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343080" y="6461280"/>
            <a:ext cx="6095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50d19"/>
                </a:solidFill>
                <a:latin typeface="Arial Narrow"/>
              </a:rPr>
              <a:t>*Средней продолжительность лечения, занятости боксов/койки пациентами 14 дней</a:t>
            </a:r>
            <a:endParaRPr b="0" lang="en-US" sz="14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7696080" y="1363680"/>
            <a:ext cx="4381560" cy="91692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14 пациентов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9550440" y="2798640"/>
            <a:ext cx="2527200" cy="1465560"/>
          </a:xfrm>
          <a:prstGeom prst="rect">
            <a:avLst/>
          </a:prstGeom>
          <a:solidFill>
            <a:srgbClr val="a5d0e3"/>
          </a:solidFill>
          <a:ln w="64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Обеспечивает прием, оказание МП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Narrow"/>
              </a:rPr>
              <a:t>при среднесуточном поступлении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не более 45 пациентов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419040" y="4799160"/>
            <a:ext cx="4213440" cy="855000"/>
          </a:xfrm>
          <a:prstGeom prst="rect">
            <a:avLst/>
          </a:prstGeom>
          <a:noFill/>
          <a:ln w="9360">
            <a:solidFill>
              <a:srgbClr val="108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При одномоментном массовом или поступлении заболевших более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45</a:t>
            </a:r>
            <a:r>
              <a:rPr b="0" lang="ru-RU" sz="1600" spc="-1" strike="noStrike">
                <a:solidFill>
                  <a:srgbClr val="1f50a1"/>
                </a:solidFill>
                <a:latin typeface="Arial"/>
              </a:rPr>
              <a:t> пациентов в сутки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8" name="Прямоугольник 13"/>
          <p:cNvSpPr/>
          <p:nvPr/>
        </p:nvSpPr>
        <p:spPr>
          <a:xfrm>
            <a:off x="6159600" y="4756320"/>
            <a:ext cx="5918040" cy="1067400"/>
          </a:xfrm>
          <a:prstGeom prst="rect">
            <a:avLst/>
          </a:prstGeom>
          <a:solidFill>
            <a:srgbClr val="a5d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ерепрофилирование всех терапевтических, пульмонологических, ОСУ коек и др.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сего доступно 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 301 резервная койка, в т.ч. 606 реанимационных </a:t>
            </a:r>
            <a:endParaRPr b="0" lang="en-US" sz="16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4842000" y="5114880"/>
            <a:ext cx="1096920" cy="293760"/>
          </a:xfrm>
          <a:prstGeom prst="rightArrow">
            <a:avLst>
              <a:gd name="adj1" fmla="val 50000"/>
              <a:gd name="adj2" fmla="val 93352"/>
            </a:avLst>
          </a:prstGeom>
          <a:solidFill>
            <a:srgbClr val="a5d0e3"/>
          </a:solidFill>
          <a:ln w="9360">
            <a:solidFill>
              <a:srgbClr val="1f50a1"/>
            </a:solidFill>
            <a:miter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665280" y="355680"/>
            <a:ext cx="1097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1c10"/>
                </a:solidFill>
                <a:latin typeface="PF Din Text Comp Pro Medium"/>
              </a:rPr>
              <a:t>Готовность медицинских организаций Пермского края</a:t>
            </a:r>
            <a:endParaRPr b="0" lang="en-US" sz="32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6610E58F-9F5C-4F06-8C0E-DD1BC6278671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9360" y="1325160"/>
            <a:ext cx="11536560" cy="27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ы для вентиляции легких - 520 шт., из них 9 для высокочастотной ИВЛ (из них  100% изношенностью оборудования 30 аппаратов ИВЛ, 7 ВЧ-ИВЛ)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Пульсоксиметры – 1 976 ед., в том числе 273 шт. на бригадах ССМП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Аппарат для экстракорпоральной мембранной оксигенации для оказания помощи взрослому населению в ГБУЗ ПК «Ордена «Знак Почета» ПККБ»- 1 ед.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2 передвижные дезкамеры; 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2100" spc="-1" strike="noStrike">
                <a:solidFill>
                  <a:srgbClr val="102851"/>
                </a:solidFill>
                <a:latin typeface="Arial Narrow"/>
              </a:rPr>
              <a:t>Транспортировочные изолирующие носилки с приточно-вытяжной системой вентиляции – 1  ед.</a:t>
            </a:r>
            <a:endParaRPr b="0" lang="en-US" sz="21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24" name="Picture 6" descr="1697_image"/>
          <p:cNvPicPr/>
          <p:nvPr/>
        </p:nvPicPr>
        <p:blipFill>
          <a:blip r:embed="rId1"/>
          <a:stretch/>
        </p:blipFill>
        <p:spPr>
          <a:xfrm>
            <a:off x="10463040" y="4078440"/>
            <a:ext cx="1729080" cy="2779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6"/>
          <p:cNvSpPr/>
          <p:nvPr/>
        </p:nvSpPr>
        <p:spPr>
          <a:xfrm>
            <a:off x="843120" y="182520"/>
            <a:ext cx="1097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PF Din Text Comp Pro Medium"/>
              </a:rPr>
              <a:t>Материально-техническая 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266760" y="5892840"/>
            <a:ext cx="927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Распоряжением Правительства РФ выделена субсидия в размере </a:t>
            </a:r>
            <a:r>
              <a:rPr b="1" lang="ru-RU" sz="2000" spc="-1" strike="noStrike">
                <a:solidFill>
                  <a:srgbClr val="c70c03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c70c03"/>
                </a:solidFill>
                <a:latin typeface="Arial"/>
              </a:rPr>
              <a:t> млн. руб.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 целях софинансирования на приобретение аппаратов ИВЛ, ВЧ-ИВЛ, ЭКМО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266760" y="4267080"/>
            <a:ext cx="592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Потребность в приобретения: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а ЭКМО для детей – 1 ед. (10 млн.руб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Аппаратов ИВЛ – 10 ед. (15 млн.руб.);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buClr>
                <a:srgbClr val="1f50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50a1"/>
                </a:solidFill>
                <a:latin typeface="Arial"/>
              </a:rPr>
              <a:t>ВЧ-ИВЛ 7 ед. (14 млн.руб.)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 сумму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39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млн.рублей </a:t>
            </a: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CA522735-32EF-46CC-B2EE-0DEFECCBCDED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836640" y="0"/>
            <a:ext cx="10733040" cy="836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c1c10"/>
                </a:solidFill>
                <a:latin typeface="Calibri"/>
              </a:rPr>
              <a:t>Готовность медицинских организаций Пермского края</a:t>
            </a:r>
            <a:endParaRPr b="0" lang="en-US" sz="3500" spc="-1" strike="noStrike">
              <a:solidFill>
                <a:srgbClr val="1f50a1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16000" y="1081080"/>
          <a:ext cx="11734560" cy="5730840"/>
        </p:xfrm>
        <a:graphic>
          <a:graphicData uri="http://schemas.openxmlformats.org/drawingml/2006/table">
            <a:tbl>
              <a:tblPr/>
              <a:tblGrid>
                <a:gridCol w="3047760"/>
                <a:gridCol w="5842080"/>
                <a:gridCol w="2844720"/>
              </a:tblGrid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Средства индивидуальной защиты персонала: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полнительный потребность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1368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206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чумные костюм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I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ипа -  240 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дноразовые костюмы типа «Кварц»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не менее 7 костюмов на медицинскую организацию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4 человек в сутки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отребность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740 костюмов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;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050d19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и поступлении до 130 человек в сутки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потребность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680 костюмов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buClr>
                          <a:srgbClr val="c00000"/>
                        </a:buClr>
                        <a:buFont typeface="PF Din Text Comp Pro Medium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00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костюмов 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5,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)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40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костюмов -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PF Din Text Comp Pro Medium"/>
                        </a:rPr>
                        <a:t>14,4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Частично замена на одноразовые костюмы (10 на 1 пац./сут.), особенно при единичном поступление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Халаты одноразовые, шапочка медицинская, бахилы одноразовые, перчатки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период работы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-3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есяца (в условиях поступления инфицированных больных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Маски одноразовые – 970 000 шт.; Респираторы FFP 2 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–    89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остаточно на 2 месяца работы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мах срока использования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FFP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NR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(24 часа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Требуется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дополнительный закуп респираторов </a:t>
                      </a: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2 458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шт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Очки медицинские многоразового использования – 1550 шт.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Из расчета 3 пары очков на медицинскую бригаду </a:t>
                      </a:r>
                      <a:r>
                        <a:rPr b="0" lang="en-US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(стационары, поликлиники, патологоанатомические бюро, ССМП). 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Противовирусны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 в условиях возможности поступления инфицированных больных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езинфицирующие средства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Для работы не менее 2-х месяцев в условиях поступления инфицированных больных (80 наименований, на сумму  более 13 млн. руб.)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576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50d19"/>
                          </a:solidFill>
                          <a:latin typeface="PF Din Text Comp Pro Medium"/>
                        </a:rPr>
                        <a:t>Не требуется</a:t>
                      </a:r>
                      <a:endParaRPr b="0" lang="en-US" sz="1400" spc="-1" strike="noStrike">
                        <a:solidFill>
                          <a:srgbClr val="1f50a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50a1"/>
                      </a:solidFill>
                    </a:lnL>
                    <a:lnR w="13680">
                      <a:solidFill>
                        <a:srgbClr val="1f50a1"/>
                      </a:solidFill>
                    </a:lnR>
                    <a:lnT w="5760">
                      <a:solidFill>
                        <a:srgbClr val="1f50a1"/>
                      </a:solidFill>
                    </a:lnT>
                    <a:lnB w="5760">
                      <a:solidFill>
                        <a:srgbClr val="1f50a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11652120" y="631836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8440280"/>
              </a:tabLst>
            </a:pPr>
            <a:fld id="{D4DA7DBE-6260-4B28-9543-027691367CB6}" type="slidenum">
              <a:rPr b="0" lang="ru-RU" sz="2000" spc="-1" strike="noStrike">
                <a:solidFill>
                  <a:srgbClr val="c2c2c2"/>
                </a:solidFill>
                <a:latin typeface="PF Din Text Comp Pro Medium"/>
                <a:ea typeface="PF Din Text Comp Pro Medium"/>
              </a:rPr>
              <a:t>&lt;number&gt;</a:t>
            </a:fld>
            <a:endParaRPr b="0" lang="en-US" sz="20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155240"/>
            <a:ext cx="9269280" cy="556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Определены места для организации непрерывного обсервационного медицинского наблюдения: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ГБУЗ ПК «Очерская ЦРБ»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- на 30 коек (8 боксов)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5, маски – 2 578, перчатки – 8 569. Дезсредства «Део-хлор» 10 упаковок по 300 таб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102851"/>
                </a:solidFill>
                <a:latin typeface="Arial Narrow"/>
              </a:rPr>
              <a:t>Отделение реабилитации ГБУЗ ПК «ГКДП №6»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- на 40 коек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Создан запас: костюмы п/чумные – 20, маски – 2000, перчатки – 2000. Дезсредства «Део-хлор» 5 упаковок по 300 таб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оведено обучение персонала – режимные моменты, дезинфекция, отбор материала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Заключены договора на охранные услуги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Разработана схема утилизации отходов. Заключены договоры на вывоз отходов класса В. Предусмотрена площадка для дезинфекции автотранспорта со сливом в накопитель (Очер). Автономная система обеззараживания жидких отходов.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  <a:p>
            <a:pPr algn="just">
              <a:lnSpc>
                <a:spcPts val="2636"/>
              </a:lnSpc>
              <a:spcBef>
                <a:spcPts val="1001"/>
              </a:spcBef>
              <a:buClr>
                <a:srgbClr val="1028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102851"/>
                </a:solidFill>
                <a:latin typeface="Arial Narrow"/>
              </a:rPr>
              <a:t>Предусмотрена дезинфекционная обработка (камерная дезинфекция) после выписки каждой группы. </a:t>
            </a:r>
            <a:endParaRPr b="0" lang="en-US" sz="1800" spc="-1" strike="noStrike">
              <a:solidFill>
                <a:srgbClr val="767171"/>
              </a:solidFill>
              <a:latin typeface="Arial Narrow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0a1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789120" y="0"/>
            <a:ext cx="1071540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c1c10"/>
                </a:solidFill>
                <a:latin typeface="Calibri"/>
              </a:rPr>
              <a:t>Обсервационный госпиталь для здоровых контактных лиц</a:t>
            </a:r>
            <a:endParaRPr b="0" lang="en-US" sz="3600" spc="-1" strike="noStrike">
              <a:solidFill>
                <a:srgbClr val="1f50a1"/>
              </a:solidFill>
              <a:latin typeface="Arial"/>
            </a:endParaRPr>
          </a:p>
        </p:txBody>
      </p:sp>
      <p:pic>
        <p:nvPicPr>
          <p:cNvPr id="136" name="Picture 5" descr="C:\Users\kvovchinnikov\Desktop\Овчинников\Коронавирус\Обсервация\IMG-0d961d05cc7ccc6e212e3d02dcc834b3-V.jpg"/>
          <p:cNvPicPr/>
          <p:nvPr/>
        </p:nvPicPr>
        <p:blipFill>
          <a:blip r:embed="rId1"/>
          <a:stretch/>
        </p:blipFill>
        <p:spPr>
          <a:xfrm>
            <a:off x="9348840" y="739800"/>
            <a:ext cx="2843280" cy="45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01T04:57:54Z</dcterms:created>
  <dc:creator>Лариса Ерогова Ренатовна</dc:creator>
  <dc:description/>
  <dc:language>en-US</dc:language>
  <cp:lastModifiedBy>Камкин Евгений Валерьевич</cp:lastModifiedBy>
  <dcterms:modified xsi:type="dcterms:W3CDTF">2020-03-12T03:17:03Z</dcterms:modified>
  <cp:revision>197</cp:revision>
  <dc:subject/>
  <dc:title>Презентация PowerPoint</dc:title>
</cp:coreProperties>
</file>