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8ae7"/>
                </a:solidFill>
                <a:latin typeface="PF Din Text Comp Pro Medium"/>
              </a:rPr>
              <a:t>Click to move the slide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58FD-300E-44F7-B7B2-03141E7725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AD3E-B7EB-4857-B54E-9D9471A74367}" type="slidenum">
              <a:rPr b="0" lang="ru-RU" sz="1200" spc="-1" strike="noStrike">
                <a:solidFill>
                  <a:srgbClr val="1f50a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Средняя стоимость противочумных костюмов типа </a:t>
            </a:r>
            <a:r>
              <a:rPr b="0" lang="en-US" sz="700" spc="-1" strike="noStrike">
                <a:solidFill>
                  <a:srgbClr val="102851"/>
                </a:solidFill>
                <a:latin typeface="Calibri"/>
              </a:rPr>
              <a:t>I</a:t>
            </a: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 - 10 тыс рубле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Ограничение возможности закупа дополнительного количества масок по прежней стоимости у поставщиков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0C3B-FCC1-4CF4-9624-7ECD03DC6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0EFD-B43F-477F-ABA1-853E8CCD2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7C6B-51D9-4D98-B235-4EA9E48C8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0279-C11F-4EAB-B8F7-230B99831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ABFF-23E1-4159-8B2B-93223AF6D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8439-E189-4EFD-AA4E-FAB41CD24C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EC40-810F-4636-908F-4802E47D8D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6030-ED9F-4109-8B66-F337C4719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E110-BF45-4466-A6D6-6EC38F180D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39CE-0A5B-49AA-8132-80A63FA34E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A460-A79F-401C-820F-7D3A00224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5E55-72B4-4AB4-BC2B-D3110B9B3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36F5-603A-47F6-9E12-F12977976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E10C-4E59-4997-934E-977E56DA31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BCC3-233F-4557-94CF-B5C256D503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9A64-A1C1-42DC-8A38-EDEA426E4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D6FE-6875-427A-994D-F7B904A45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EAEF-2126-4C16-BD22-23F7B2383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D5EF-C3FD-42E9-96AC-CA1D14781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FA90-918C-4551-806A-330B8DEDC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8EBB-8A05-4B32-ABCF-282C1F362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4599-DA78-4DC3-9F61-49A4FBAD5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D22B-D170-41A9-9D85-3B74FFF85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AD68-FD4D-4C79-A4C9-713B25655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03B4BB82-1CCB-465D-A1C3-32F6CA24DFA4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39" name="Прямоугольник 7"/>
          <p:cNvSpPr/>
          <p:nvPr/>
        </p:nvSpPr>
        <p:spPr>
          <a:xfrm>
            <a:off x="843120" y="490680"/>
            <a:ext cx="11349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9CE8C695-4C7F-4721-9E26-B35B63DCDB0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99C58C72-4BDF-4DDB-A193-D8B6E8F2356C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280" y="2212920"/>
            <a:ext cx="11338200" cy="380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О мерах по предупреждению завоза </a:t>
            </a:r>
            <a:br>
              <a:rPr sz="4800"/>
            </a:b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и  распространения коронаровирусной инфекции в Пермском крае</a:t>
            </a:r>
            <a:endParaRPr b="0" lang="en-US" sz="48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960" y="5626080"/>
            <a:ext cx="4818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9216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Докладчик: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Камкин Евгений Валерьевич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Зам. министра здравоохранения Пермского края</a:t>
            </a:r>
            <a:endParaRPr b="0" lang="en-US" sz="16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0750680" y="56260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2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2020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43B2F262-6A9C-4AFB-901A-133599687D1C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PF Din Text Comp Pro Medium"/>
              </a:rPr>
              <a:t>Эпидемическая ситуация по коронавирусной инфекцией в Пермском крае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717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17520" y="1627200"/>
            <a:ext cx="11506320" cy="4656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За период с 24.01.2020 по настоящее время проведено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в условиях обсервационного отделения: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2 граждан КНР (обследованы, выписаны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лечение в условиях инфекционного стационара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7  лиц (из них 7 детей), прибывших из КНР (все госпитализированные пациенты выписаны.  При лабораторных исследований новая коронавирусная инфекция не выявлена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за прибывшими из КНР, Ирана, Ю.Кореи, Италии и др. стран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торых зафиксированы случаи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2019-nCoV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личестве 486 человек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На 12 марта 2020 г. под медицинским наблюдением на дому находится 90 человек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78 граждан РФ, прибывших с территории Республики Итал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6 граждан РФ, прибывших с территории Республики Южная Коре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 РФ, прибывший с территории Королевства Испан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Австрии;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Франции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а Республики Иран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4"/>
          <p:cNvSpPr/>
          <p:nvPr/>
        </p:nvSpPr>
        <p:spPr>
          <a:xfrm>
            <a:off x="11596680" y="120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2F588899-AFBD-43C8-ACD1-F1CFD68E022C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98360"/>
            <a:ext cx="109728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F Din Text Comp Pro Medium"/>
              </a:rPr>
              <a:t>Стратегия ведения прибывших граждан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55600" y="10796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с территории из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4378320" y="1289160"/>
            <a:ext cx="1096920" cy="293400"/>
          </a:xfrm>
          <a:prstGeom prst="rightArrow">
            <a:avLst>
              <a:gd name="adj1" fmla="val 50000"/>
              <a:gd name="adj2" fmla="val 93466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5792760" y="1068480"/>
            <a:ext cx="607392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Изоляция на дому 14 дней с выдачей листа нетрудоспособности и 2-3 кратное обследованием на коронавирус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4433760" y="381636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4473720" y="498780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55600" y="22971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с признаками ОРВИ, прибывшие с территории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5834160" y="2174760"/>
            <a:ext cx="604368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Госпитализация в инфекционные боксы согласно утвержденной схемы, исследование на коронавирус  4-х кратно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5830920" y="3313080"/>
            <a:ext cx="608328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активное меднаблюдение без выдачи листка нетрудоспособности, однократное исследование на коронавирус по направлению врача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048120" y="612288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255600" y="58197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Здоровые, бывшие в контакте с больным коронавирусной инфекцией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902200" y="6043680"/>
            <a:ext cx="6012000" cy="64260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Обсервационный госпиталь с выдачей листа нетрудоспособности , 4-х кратное обследовани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4465800" y="6095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55600" y="46688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с признаками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4410000" y="24922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781600" y="1087560"/>
            <a:ext cx="540396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862600" y="4670280"/>
            <a:ext cx="605160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госпитализация в инфекционные боксы согласно утвержденной схемы, исследование на коронавиру по направлению врача 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5600" y="350532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без признаков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CA85A09B-7175-477F-AE51-A2DF7D4BEBD0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6920" y="1170000"/>
            <a:ext cx="11631600" cy="54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f50a1"/>
                </a:solidFill>
                <a:uFillTx/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Воздержитесь от посещения общественных мест: торговых центров, спортивных и зрелищных мероприятий, транспорта в час пик;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спользуйте одноразовую медицинскую маску (респиратор) в общественных местах, меняя ее каждые 3 часа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збегайте близких контактов и пребывания в одном помещении с людьми, имеющими видимые признаки ОРВИ (кашель, чихание, выделения из носа)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Мойте руки с мылом и водой тщательно после возвращения с улицы, контактов с посторонними людьми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Дезинфицируйте гаджеты, оргтехнику и поверхности, к которым прикасаетесь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Ограничьте по возможности при приветствии тесные объятия и рукопожатия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Пользуйтесь только индивидуальными предметами личной гигиены (полотенце, зубная щетка)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0c03"/>
                </a:solidFill>
                <a:latin typeface="Arial Narrow"/>
              </a:rPr>
              <a:t>Помните: в случае появления признаков ОРВИ вызывайте врача, не занимайтесь самолечением!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855720" y="12708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7 шагов по профилактике коронавирусной инфекции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2B7B50D-7F51-4CB7-8D5A-2BE951C66FAD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1EEF-98CC-4891-B1EF-02A64FFA78DB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784520" y="2908440"/>
            <a:ext cx="8615160" cy="78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a02"/>
                </a:solidFill>
                <a:latin typeface="Calibri"/>
              </a:rPr>
              <a:t>Будьте здоровы!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22D696B8-29ED-471D-B62A-DCD855E985A9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5160" y="1469520"/>
            <a:ext cx="1141092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Председательства Правительства Российской Федерации от 31 января 2020 г.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№ 66 «О внесении изменения в перечень заболеваний, представляющих опасность для окружающи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4 января 2020 г. № 2 «О дополнительных мероприятиях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V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31 января 2020 г. № 3 «О проведении дополнительных санитарно-противоэпидемических (профилактических) мероприятий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 марта 2020 г. № 5 «О дополнительных мерах по снижению рисков завоза и распространения новой коронавирусной инфекции (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)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42960" y="345960"/>
            <a:ext cx="11549160" cy="84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Нормативно-правовая документация 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федерального уровн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DE6B87AA-8852-4399-8BBE-383F813BE3D9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7920" y="1279080"/>
            <a:ext cx="11479320" cy="511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лан организационных, санитарно-противоэпидемических (профилактических) мероприятий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 предупреждению завоза и распространения новой коронавирусной инфекции, утвержденный и.о. председателя Правительства Пермского края от 30 января 2020 г.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 межведомственной санитарно-противоэпидемической комиссии при Правительстве Пермского края от 31 января 2020 г. № 117 «О предотвращении возможности завоза нового коронавируса в Пермский край и дополнительных профилактических мероприятия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Распоряжение Правительства Пермского края от 7 февраля 2020 г. № 25-рп «О создании оперативного штаба по координации мероприятий по предупреждению распространения новой коронавирусной инфекции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ы заседания Оперативного штаба по координации мероприятий по предупреждению распространения на территории Пермского края коронавирусной инфекции при Правительстве Пермского края от 5 февраля 2020 г. № 1 и от 3 марта 2020 г. № 2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иказ Министерства здравоохранения Пермского края от 30 января 2020г. № СЭД-34-01-05-43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«О дополнительных мерах по недопущению распространения новой коронавирусной инфекции»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122480" y="17460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Нормативно-правовая</a:t>
            </a:r>
            <a:r>
              <a:rPr b="0" lang="en-US" sz="2400" spc="-1" strike="noStrike">
                <a:solidFill>
                  <a:srgbClr val="fc1c1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и организационная документация регионального уровн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140FE363-CE51-4662-A407-A8A47AA37A98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B4532BA4-F0A2-4A63-852E-A723BC2CFA18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249200" y="158760"/>
            <a:ext cx="10714320" cy="85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Маршрутизация пациентов с подтвержденной коронавирусной инфекцией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144360" y="1268280"/>
            <a:ext cx="1181916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иказом Министерства от 30 января 2020 г. № СЭД-34-01-05-43 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схема маршрутизации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в боксированные отделения взрослых, детей и беременных с симптомами не исключающими коронаровирусную инфекцию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базовая медицинская организация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принимающая пациентов с подтвержденной коронаровирусной инфекцией и контактных с зараженными, на базе ГБУЗ ПК «Пермская краевая клиническая инфекционная больница», </a:t>
            </a:r>
            <a:r>
              <a:rPr b="0" lang="ru-RU" sz="2400" spc="-1" strike="noStrike">
                <a:solidFill>
                  <a:srgbClr val="050d19"/>
                </a:solidFill>
                <a:latin typeface="Calibri"/>
              </a:rPr>
              <a:t>на 305 коек, из них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185 коек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в т.ч. 15 детских боксов на 30 коек и 5 взрослых боксов на 15 коек, для приема пациентов </a:t>
            </a:r>
            <a:r>
              <a:rPr b="0" lang="en-US" sz="2400" spc="-1" strike="noStrike">
                <a:solidFill>
                  <a:srgbClr val="102851"/>
                </a:solidFill>
                <a:latin typeface="Calibri"/>
              </a:rPr>
              <a:t>2019-nCoV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едусмотрена возможность госпитализации пациентов с другими инфекциями (помимо коронаровирусной)</a:t>
            </a:r>
            <a:r>
              <a:rPr b="0" lang="en-US" sz="2400" spc="-1" strike="noStrike">
                <a:solidFill>
                  <a:srgbClr val="102851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ПКЦ «ФМБА» для взрослых, ГБУЗ ПК «КМСЧ №1 для беременных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рганизована работ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«Горячей  линии» тел. 258-07-87 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с целью информирования граждан, вернувшихся с неблагополучных по коронавирусной инфекции территорий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AAAA4D01-C03E-4F39-8E0E-E78407FDC59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3680" y="1218960"/>
            <a:ext cx="8039160" cy="55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командно-штабное учение с участием Министерства здравоохранения, служба медицины катастроф, медицинские организации, Управление Роспотребнадзора, МЧС, ГУ МВД, Управление Росгвардии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45 проверок готовности МО к работе в условиях возможного заноса инфекции с участием Управление Роспотребнадзор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бъектовые тренировки в учреждениях по отработке алгоритмов работы в строгом противоэпидемическом режиме (поликлиники, стационары). 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о 305 инструктажей медицинского персонала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тработан порядок проведения заключительной дезинфекции транспорт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ы практические семинары по технике забора и транспортировки материалов на исследование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4CB7-B436-40B8-932A-2BB71B973176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825480" y="127080"/>
            <a:ext cx="11150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Командно-штабные учения, тренировки, обучени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04" name="Picture 5" descr="DSC_1396"/>
          <p:cNvPicPr/>
          <p:nvPr/>
        </p:nvPicPr>
        <p:blipFill>
          <a:blip r:embed="rId1"/>
          <a:stretch/>
        </p:blipFill>
        <p:spPr>
          <a:xfrm>
            <a:off x="77760" y="1071720"/>
            <a:ext cx="3884760" cy="211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s"/>
          <p:cNvPicPr/>
          <p:nvPr/>
        </p:nvPicPr>
        <p:blipFill>
          <a:blip r:embed="rId2"/>
          <a:stretch/>
        </p:blipFill>
        <p:spPr>
          <a:xfrm>
            <a:off x="100080" y="3373560"/>
            <a:ext cx="386244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age_big_174523"/>
          <p:cNvPicPr/>
          <p:nvPr/>
        </p:nvPicPr>
        <p:blipFill>
          <a:blip r:embed="rId3"/>
          <a:stretch/>
        </p:blipFill>
        <p:spPr>
          <a:xfrm>
            <a:off x="268200" y="5402160"/>
            <a:ext cx="217656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B7CE9DB5-1CCF-4899-A7EB-1B10C20F9C0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8" name="Pentagon 149"/>
          <p:cNvSpPr/>
          <p:nvPr/>
        </p:nvSpPr>
        <p:spPr>
          <a:xfrm>
            <a:off x="419040" y="1336680"/>
            <a:ext cx="2300400" cy="976320"/>
          </a:xfrm>
          <a:custGeom>
            <a:avLst/>
            <a:gdLst>
              <a:gd name="textAreaLeft" fmla="*/ 0 w 2300400"/>
              <a:gd name="textAreaRight" fmla="*/ 2300400 w 2300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16" y="0"/>
                </a:lnTo>
                <a:lnTo>
                  <a:pt x="21600" y="10800"/>
                </a:lnTo>
                <a:lnTo>
                  <a:pt x="17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 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9" name="Chevron 102"/>
          <p:cNvSpPr/>
          <p:nvPr/>
        </p:nvSpPr>
        <p:spPr>
          <a:xfrm>
            <a:off x="2211480" y="1338120"/>
            <a:ext cx="2703600" cy="974880"/>
          </a:xfrm>
          <a:custGeom>
            <a:avLst/>
            <a:gdLst>
              <a:gd name="textAreaLeft" fmla="*/ 0 w 2703600"/>
              <a:gd name="textAreaRight" fmla="*/ 2703960 w 270360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1" y="0"/>
                </a:lnTo>
                <a:lnTo>
                  <a:pt x="21600" y="10800"/>
                </a:lnTo>
                <a:lnTo>
                  <a:pt x="18041" y="21600"/>
                </a:lnTo>
                <a:lnTo>
                  <a:pt x="0" y="21600"/>
                </a:lnTo>
                <a:lnTo>
                  <a:pt x="355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20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боксированны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0" name="Chevron 102"/>
          <p:cNvSpPr/>
          <p:nvPr/>
        </p:nvSpPr>
        <p:spPr>
          <a:xfrm>
            <a:off x="4460760" y="1333440"/>
            <a:ext cx="2849760" cy="97956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07" y="0"/>
                </a:lnTo>
                <a:lnTo>
                  <a:pt x="21600" y="10800"/>
                </a:lnTo>
                <a:lnTo>
                  <a:pt x="18207" y="21600"/>
                </a:lnTo>
                <a:lnTo>
                  <a:pt x="0" y="21600"/>
                </a:lnTo>
                <a:lnTo>
                  <a:pt x="3393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57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боксированны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1" name="Pentagon 149"/>
          <p:cNvSpPr/>
          <p:nvPr/>
        </p:nvSpPr>
        <p:spPr>
          <a:xfrm>
            <a:off x="419040" y="3051000"/>
            <a:ext cx="2274840" cy="97632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5" y="0"/>
                </a:lnTo>
                <a:lnTo>
                  <a:pt x="21600" y="10800"/>
                </a:lnTo>
                <a:lnTo>
                  <a:pt x="169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 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2" name="Chevron 102"/>
          <p:cNvSpPr/>
          <p:nvPr/>
        </p:nvSpPr>
        <p:spPr>
          <a:xfrm>
            <a:off x="2211480" y="3052800"/>
            <a:ext cx="3552840" cy="974520"/>
          </a:xfrm>
          <a:custGeom>
            <a:avLst/>
            <a:gdLst>
              <a:gd name="textAreaLeft" fmla="*/ 0 w 3552840"/>
              <a:gd name="textAreaRight" fmla="*/ 3553200 w 355284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lnTo>
                  <a:pt x="270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65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все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3" name="Chevron 102"/>
          <p:cNvSpPr/>
          <p:nvPr/>
        </p:nvSpPr>
        <p:spPr>
          <a:xfrm>
            <a:off x="5311800" y="3048120"/>
            <a:ext cx="3971880" cy="979200"/>
          </a:xfrm>
          <a:custGeom>
            <a:avLst/>
            <a:gdLst>
              <a:gd name="textAreaLeft" fmla="*/ 0 w 3971880"/>
              <a:gd name="textAreaRight" fmla="*/ 3972240 w 397188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65" y="0"/>
                </a:lnTo>
                <a:lnTo>
                  <a:pt x="21600" y="10800"/>
                </a:lnTo>
                <a:lnTo>
                  <a:pt x="19165" y="21600"/>
                </a:lnTo>
                <a:lnTo>
                  <a:pt x="0" y="21600"/>
                </a:lnTo>
                <a:lnTo>
                  <a:pt x="2435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1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все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43080" y="6461280"/>
            <a:ext cx="6095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50d19"/>
                </a:solidFill>
                <a:latin typeface="Arial Narrow"/>
              </a:rPr>
              <a:t>*Средней продолжительность лечения, занятости боксов/койки пациентами 14 дней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7696080" y="1363680"/>
            <a:ext cx="4381560" cy="91692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14 пациентов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9550440" y="2798640"/>
            <a:ext cx="2527200" cy="146556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45 пациентов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419040" y="4799160"/>
            <a:ext cx="4213440" cy="855000"/>
          </a:xfrm>
          <a:prstGeom prst="rect">
            <a:avLst/>
          </a:prstGeom>
          <a:noFill/>
          <a:ln w="9360">
            <a:solidFill>
              <a:srgbClr val="108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При одномоментном массовом или поступлении заболевших более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45</a:t>
            </a: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 пациентов в сутки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8" name="Прямоугольник 13"/>
          <p:cNvSpPr/>
          <p:nvPr/>
        </p:nvSpPr>
        <p:spPr>
          <a:xfrm>
            <a:off x="6159600" y="4756320"/>
            <a:ext cx="5918040" cy="1067400"/>
          </a:xfrm>
          <a:prstGeom prst="rect">
            <a:avLst/>
          </a:prstGeom>
          <a:solidFill>
            <a:srgbClr val="a5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ерепрофилирование всех терапевтических, пульмонологических, ОСУ коек и др.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сего доступно 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 301 резервная койка, в т.ч. 606 реанимационны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4842000" y="5114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a5d0e3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665280" y="355680"/>
            <a:ext cx="1097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PF Din Text Comp Pro Medium"/>
              </a:rPr>
              <a:t>Готовность медицинских организаций Пермского кра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EF91850E-65C0-4ED8-9440-F7C817406F49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9360" y="1325160"/>
            <a:ext cx="11536560" cy="27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ы для вентиляции легких - 520 шт., из них 9 для высокочастотной ИВЛ (из них  100% изношенностью оборудования 30 аппаратов ИВЛ, 7 ВЧ-ИВЛ)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Пульсоксиметры – 1 976 ед., в том числе 273 шт. на бригадах ССМП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 для экстракорпоральной мембранной оксигенации для оказания помощи взрослому населению в ГБУЗ ПК «Ордена «Знак Почета» ПККБ»- 1 ед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2 передвижные дезкамеры;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Транспортировочные изолирующие носилки с приточно-вытяжной системой вентиляции – 1  ед.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24" name="Picture 6" descr="1697_image"/>
          <p:cNvPicPr/>
          <p:nvPr/>
        </p:nvPicPr>
        <p:blipFill>
          <a:blip r:embed="rId1"/>
          <a:stretch/>
        </p:blipFill>
        <p:spPr>
          <a:xfrm>
            <a:off x="10463040" y="4078440"/>
            <a:ext cx="1729080" cy="2779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6"/>
          <p:cNvSpPr/>
          <p:nvPr/>
        </p:nvSpPr>
        <p:spPr>
          <a:xfrm>
            <a:off x="843120" y="182520"/>
            <a:ext cx="1097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PF Din Text Comp Pro Medium"/>
              </a:rPr>
              <a:t>Материально-техническая 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66760" y="5892840"/>
            <a:ext cx="927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Распоряжением Правительства РФ выделена субсидия в размере </a:t>
            </a:r>
            <a:r>
              <a:rPr b="1" lang="ru-RU" sz="2000" spc="-1" strike="noStrike">
                <a:solidFill>
                  <a:srgbClr val="c70c03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c70c03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 целях софинансирования на приобретение аппаратов ИВЛ, ВЧ-ИВЛ, ЭКМО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66760" y="4267080"/>
            <a:ext cx="592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Потребность в приобретения: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а ЭКМО для детей – 1 ед. (10 млн.руб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ов ИВЛ – 10 ед. (15 млн.руб.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Ч-ИВЛ 7 ед. (14 млн.руб.)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сумму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9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лн.рублей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D9A815F6-0FA0-4ABF-8614-3F54FD3E7C03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836640" y="0"/>
            <a:ext cx="1073304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Calibri"/>
              </a:rPr>
              <a:t>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16000" y="1081080"/>
          <a:ext cx="11734560" cy="5730840"/>
        </p:xfrm>
        <a:graphic>
          <a:graphicData uri="http://schemas.openxmlformats.org/drawingml/2006/table">
            <a:tbl>
              <a:tblPr/>
              <a:tblGrid>
                <a:gridCol w="3047760"/>
                <a:gridCol w="5842080"/>
                <a:gridCol w="2844720"/>
              </a:tblGrid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Средства индивидуальной защиты персонала: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полнительный потребность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20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чумные костюм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ипа -  240 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дноразовые костюмы типа «Кварц»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не менее 7 костюмов на медицинскую организацию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4 человек в сутки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отребность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740 костюмов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;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30 человек в сутки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потребность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680 костюмов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c00000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00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костюмов 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,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)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4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костюмов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,4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Частично замена на одноразовые костюмы (10 на 1 пац./сут.), особенно при единичном поступление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Халаты одноразовые, шапочка медицинская, бахилы одноразовые, перчатки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период работ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-3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есяца (в условиях поступления инфицированных больных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аски одноразовые – 970 000 шт.; Респираторы FFP 2 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–    89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2 месяца работы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мах срока использования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FFP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(24 часа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ребуется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дополнительный закуп респираторов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458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чки медицинские многоразового использования – 155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3 пары очков на медицинскую бригаду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вирусны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 в условиях возможности поступления инфицированных больных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езинфицирующи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в условиях поступления инфицированных больных (80 наименований, на сумму  более 13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F5EF0F2D-215F-4792-A67E-259924FD6B50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155240"/>
            <a:ext cx="9269280" cy="55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Определены места для организации непрерывного обсервационного медицинского наблюдения: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ГБУЗ ПК «Очерская ЦРБ»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- на 30 коек (8 боксов)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5, маски – 2 578, перчатки – 8 569. Дезсредства «Део-хлор» 10 упаковок по 300 таб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Отделение реабилитации ГБУЗ ПК «ГКДП №6»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- на 40 коек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0, маски – 2000, перчатки – 2000. Дезсредства «Део-хлор» 5 упаковок по 300 таб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оведено обучение персонала – режимные моменты, дезинфекция, отбор материала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Заключены договора на охранные услуги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Разработана схема утилизации отходов. Заключены договоры на вывоз отходов класса В. Предусмотрена площадка для дезинфекции автотранспорта со сливом в накопитель (Очер). Автономная система обеззараживания жидких отходов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едусмотрена дезинфекционная обработка (камерная дезинфекция) после выписки каждой группы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789120" y="0"/>
            <a:ext cx="107154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Обсервационный госпиталь для здоровых контактных лиц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36" name="Picture 5" descr="C:\Users\kvovchinnikov\Desktop\Овчинников\Коронавирус\Обсервация\IMG-0d961d05cc7ccc6e212e3d02dcc834b3-V.jpg"/>
          <p:cNvPicPr/>
          <p:nvPr/>
        </p:nvPicPr>
        <p:blipFill>
          <a:blip r:embed="rId1"/>
          <a:stretch/>
        </p:blipFill>
        <p:spPr>
          <a:xfrm>
            <a:off x="9348840" y="739800"/>
            <a:ext cx="2843280" cy="45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1T04:57:54Z</dcterms:created>
  <dc:creator>Лариса Ерогова Ренатовна</dc:creator>
  <dc:description/>
  <dc:language>en-US</dc:language>
  <cp:lastModifiedBy>Камкин Евгений Валерьевич</cp:lastModifiedBy>
  <dcterms:modified xsi:type="dcterms:W3CDTF">2020-03-12T03:17:03Z</dcterms:modified>
  <cp:revision>197</cp:revision>
  <dc:subject/>
  <dc:title>Презентация PowerPoint</dc:title>
</cp:coreProperties>
</file>